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3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9BB-1490-4126-9F75-3892DDF4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0FF-025A-4E76-81DF-C549B4AD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408-B614-4780-829F-055A3B2A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D21-A5A6-495E-8360-295D0CDB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ED61-295D-4740-B4A1-032ADC5F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CF4D-BC16-4084-9ECD-DCC842D2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7AC4-4913-4B13-861B-3ACBDEEF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9DEA-8DC1-45D2-8F4C-C805C1C6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C960-F456-4B2B-8E46-60E1207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4B4B-EB0D-4E1D-BF97-03E40E5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B08F-788F-46CB-A6CC-F0E55C9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6D7-CE00-4F3D-AECB-C59A68B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9A68-7825-431B-995E-99D7DE9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0B7E-3C94-4FD5-8978-E4E09AD5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05F2-F334-4998-8484-BE37B2AA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7735-8B94-4445-B83F-3A3491BB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A341-D83F-4A03-9038-40D2021B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65D-532D-4AF7-A26E-331C91B2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85E-1DB8-431E-B0D2-CA264F0C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39C-2DC0-4054-ACF7-BE7E7A7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220-26B0-4B41-8E7E-2562781E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387-F99F-469F-A9E6-8722434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650-67A8-4B14-8AE2-8B32649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A10-09B4-4852-A810-791EBF40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7BC5-4C4C-41DF-87AF-D39F6EBBE5AF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0000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0000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648-8566-44E7-9277-BD6EEB218B31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soblast.com/images/images-mesoblast_cell_division_still.jpg&amp;imgrefurl=http://www.mesoblast.com/news_imagedownloads.php&amp;h=576&amp;w=768&amp;sz=227&amp;hl=en&amp;start=4&amp;usg=__zN2OOAtbDpbBXwGFFTQsfnrPqno=&amp;tbnid=nuP0R2KC3SDUBM:&amp;tbnh=107&amp;tbnw=142&amp;prev=/images%3Fq%3Dcell%2Bdivision%26hl%3Den%26rls%3DGGLG,GGLG:2006-47,GGLG: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5.jpeg"/><Relationship Id="rId3" Type="http://schemas.openxmlformats.org/officeDocument/2006/relationships/image" Target="../media/image21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8960" y="1294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Structure and Func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Everything You Ever Wanted to Know…..Or Maybe Not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8.  Response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respond to stimuli in their environment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9.  Reproduc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reproduce in order to make new cell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ost cells reproduce by fission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Fission is done when one cell divides to form, new identical cell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30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Structur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hat is in a cell?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What do all the parts do?</a:t>
            </a:r>
            <a:endParaRPr b="0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p:transition spd="med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ytoplasm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ll of the materials inside of a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ot one thing, but many thing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Organell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ll of the tiny structures inside the cell that carry out  life function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ittle” Organ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Wall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Nonliving, outside of most plant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Not a part of animal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Provides protection and support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Made of cellulose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Many substances can pass through it. (oxygen, water, carbon dioxide, dissolved materials)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Membrane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Outside of an animal cell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굴림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ants also have one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It is living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ntrols what goes into and out of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Permeable to small molecul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Impermeable to larger molecul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electively Permeable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The Nucleu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ontrol Center of the Cell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arge oval structure made of proteins, enzymes, and hereditary materia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Has a nuclear membrane that allows materials to pass into and out of the nucleu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5244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The Nucleus (continued)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ay contain one or mo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nucleolus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. (These contain RNA and protein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y help to make proteins.)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The Nucleus (the conclusion)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nt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hromatin materia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– large masses of irregular thin threads of DNA, RNA, and protein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se become chromosomes during reproduction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hromosome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hold the genetic information which directs cell activities and passes on traits to new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ll Function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Even though cells are specialized, each cell must be able to do nine thing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ytoplasm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 thick, clear liquid that fills the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It is always moving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ll of the other organelles are suspended in the cytoplasm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Ribosom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mall organelles chiefly responsible for making protein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protein factories”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Often found on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Endoplasmic Reticulum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(RER)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Endoplasmic Reticulum (ER)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A canal-like membrane system attached to the cell membrane and the nuclear membrane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Assist in making proteins and moving them around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ntains enzymes needed for breaking down food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an be Smooth =&gt; no ribosomes on it or Rough =&gt; lots of ribosomes on it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Mitochondria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argest of the organell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omplex and Rod shaped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Has an inner and outer membrane. (endosymbiosis)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 inner membrane has many folds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ristea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Filled with a liquid matrix of its own DNA and ribosom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 Power House of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Break down sugars to produce energy for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Vacuol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Organelles for storing food, enzymes, or other materia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Plants hav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one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central vacuole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emporary Waste Dumping Site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Contractile Vacuole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pump excess water out of the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Lysosom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mall, round, enzyme containing organell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y digest food, destroy bacteria, and digest the cell when it di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Suicide sacs”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Golgi Apparatu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ade up of a series of closely stacked, flattened sac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hey package (wrap) substances to be secreted (transported out of) the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UPS/FedEx of cell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Plastid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eucoplasts (White) store oil, starch, or proteins in plant seed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hloroplasts are tiny, green organelles found only in plant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Chloroplasts contain chlorophyll, a green pigment responsible for helping plants to produce their own food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Centriole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Found in most plant and animal cells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here are usually two per cell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Move to opposite ends of the cell during reproduction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eem to help the cell to divide up its genetic material during cell division.</a:t>
            </a:r>
            <a:endParaRPr b="0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6" name="" descr="Centriole Structure"/>
          <p:cNvPicPr/>
          <p:nvPr/>
        </p:nvPicPr>
        <p:blipFill>
          <a:blip r:embed="rId1"/>
          <a:stretch/>
        </p:blipFill>
        <p:spPr>
          <a:xfrm>
            <a:off x="228600" y="2354400"/>
            <a:ext cx="441972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572"/>
                </a:solidFill>
                <a:latin typeface="Blue Highway"/>
              </a:rPr>
              <a:t>Who is most important?</a:t>
            </a:r>
            <a:br>
              <a:rPr sz="4800"/>
            </a:br>
            <a:r>
              <a:rPr b="1" lang="en-US" sz="2800" spc="-1" strike="noStrike">
                <a:solidFill>
                  <a:srgbClr val="007572"/>
                </a:solidFill>
                <a:latin typeface="Blue Highway"/>
              </a:rPr>
              <a:t>Decide with your partner (2 min)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Lysosomes…digest waste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ucleus….the brain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Mitochondria…cell energy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 MEMBRANE… dictates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everything that the cell brings in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nd out.  How it behaves in the 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whole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010280" y="1295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790640" cy="2438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1440000" cy="1600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1.  Diges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85840" y="837720"/>
            <a:ext cx="4800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take food molecules into smaller, simpler molecules it can use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89154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2.  Absorp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take in food, oxygen, and other substances from their environment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3.  Transport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move absorbed materials around inside the cell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4.  Biosynthesis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grow and repair themselves by building larger molecules from smaller on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7242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5.  Secre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deliver vitamins and hormones used in other parts of the organism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94" name="" descr="ergolgi.jpg"/>
          <p:cNvPicPr/>
          <p:nvPr/>
        </p:nvPicPr>
        <p:blipFill>
          <a:blip r:embed="rId1"/>
          <a:stretch/>
        </p:blipFill>
        <p:spPr>
          <a:xfrm>
            <a:off x="228600" y="1752480"/>
            <a:ext cx="47624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6.  Respira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break down organic molecules to get the energy needed for life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297" name="" descr="Research Image"/>
          <p:cNvPicPr/>
          <p:nvPr/>
        </p:nvPicPr>
        <p:blipFill>
          <a:blip r:embed="rId1"/>
          <a:stretch/>
        </p:blipFill>
        <p:spPr>
          <a:xfrm>
            <a:off x="907920" y="1981080"/>
            <a:ext cx="3364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Blue Highway"/>
              </a:rPr>
              <a:t>7.  Excretion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ells must be able to get rid of waste products that build up from life processes.</a:t>
            </a:r>
            <a:endParaRPr b="0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19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6:00:00Z</dcterms:created>
  <dc:creator>Bryon David Stump</dc:creator>
  <dc:description/>
  <dc:language>en-US</dc:language>
  <cp:lastModifiedBy>joconnor</cp:lastModifiedBy>
  <dcterms:modified xsi:type="dcterms:W3CDTF">2009-10-27T15:50:22Z</dcterms:modified>
  <cp:revision>19</cp:revision>
  <dc:subject/>
  <dc:title>Cell Structure and Function</dc:title>
</cp:coreProperties>
</file>